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2D5-C671-46E7-8109-2B2BFEBA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D9C-B7C8-40F6-BEA9-36061CD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261-7374-464A-BA5D-4729BBA5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586-F33F-43BA-ABCB-2D5B7EF4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E20-93E0-4556-B25A-8C9F4412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A02-AAD7-4F57-AEE0-B6533971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614-CACF-47F8-86B8-7C496CA6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E24-8085-4260-B5EC-77D4B3C2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C25-CBF7-492F-9A9D-28BE2DF7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62F-5DF6-447D-A918-7B5FF0A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580-9ED3-458E-BF65-56FE585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01A-4CB4-4661-969E-BD454799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67000"/>
          </a:bodyPr>
          <a:p>
            <a:pPr marL="334800" indent="-3348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2782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64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40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04B8FA9A-8475-4DB6-9198-8566E42F8AB2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33920" y="0"/>
            <a:ext cx="451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0" y="966960"/>
            <a:ext cx="550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2766960"/>
            <a:ext cx="55224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38640" y="958680"/>
            <a:ext cx="55080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76760" y="1968480"/>
            <a:ext cx="7920" cy="18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1135080"/>
            <a:ext cx="367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6840" y="2227320"/>
            <a:ext cx="1579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200" y="2503440"/>
            <a:ext cx="13078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200" y="4495680"/>
            <a:ext cx="1262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327560" cy="5867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9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914400"/>
            <a:ext cx="4190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6765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6200" y="23875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4449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240516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1066680"/>
            <a:ext cx="838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monitorinit1" descr=""/>
          <p:cNvPicPr/>
          <p:nvPr/>
        </p:nvPicPr>
        <p:blipFill>
          <a:blip r:embed="rId1"/>
          <a:stretch/>
        </p:blipFill>
        <p:spPr>
          <a:xfrm>
            <a:off x="2884320" y="1128600"/>
            <a:ext cx="3373560" cy="4599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95680" y="2514600"/>
            <a:ext cx="914400" cy="45720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990720"/>
            <a:ext cx="685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62120" y="1828800"/>
            <a:ext cx="9360" cy="213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2480" y="2133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18328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520" y="1017720"/>
            <a:ext cx="1228680" cy="27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5920" y="1855800"/>
            <a:ext cx="936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9080" y="2160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98960" y="520524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0160"/>
            <a:ext cx="62892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8400" y="1397160"/>
            <a:ext cx="8586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60" y="2563920"/>
            <a:ext cx="106668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532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2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7467480" cy="2666160"/>
            <a:chOff x="0" y="0"/>
            <a:chExt cx="7467480" cy="2666160"/>
          </a:xfrm>
        </p:grpSpPr>
        <p:sp>
          <p:nvSpPr>
            <p:cNvPr id="71" name=""/>
            <p:cNvSpPr/>
            <p:nvPr/>
          </p:nvSpPr>
          <p:spPr>
            <a:xfrm>
              <a:off x="497772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11440" y="836640"/>
              <a:ext cx="921240" cy="916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35480" bIns="-73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476040" y="551520"/>
              <a:ext cx="418680" cy="1198080"/>
              <a:chOff x="6476040" y="551520"/>
              <a:chExt cx="418680" cy="11980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6511680" y="8229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23920" y="11109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657840" y="5515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643080" y="7704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3440" y="11242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608520" y="11242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476040" y="15055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23920" y="8985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8440" y="5515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741000" y="666720"/>
              <a:ext cx="418680" cy="1198080"/>
              <a:chOff x="6741000" y="666720"/>
              <a:chExt cx="418680" cy="11980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6776640" y="9381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8880" y="12261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22800" y="6667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08040" y="8856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08400" y="12394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873480" y="12394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741000" y="16207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8880" y="10137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63400" y="6667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36400" y="1218240"/>
              <a:ext cx="1368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3840" bIns="-129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4120" y="1139040"/>
              <a:ext cx="1335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8600" y="1246320"/>
              <a:ext cx="1371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896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76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0840" y="133704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0840" y="1337040"/>
              <a:ext cx="1371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34080" y="1142640"/>
              <a:ext cx="508680" cy="3571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026720" bIns="-102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772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9400" y="2099160"/>
              <a:ext cx="2487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9400" y="0"/>
              <a:ext cx="248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09916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66616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940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772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0"/>
              <a:ext cx="0" cy="2666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2099160"/>
              <a:ext cx="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817200" bIns="-81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0" cy="209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0080" y="357120"/>
              <a:ext cx="418680" cy="1198080"/>
              <a:chOff x="370080" y="357120"/>
              <a:chExt cx="418680" cy="119808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5720" y="628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7960" y="916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1880" y="357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37120" y="5760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7480" y="9298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2560" y="9298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0080" y="1311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7960" y="704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2480" y="3571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5840" y="483840"/>
              <a:ext cx="418680" cy="1198080"/>
              <a:chOff x="645840" y="483840"/>
              <a:chExt cx="418680" cy="119808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681480" y="7552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3720" y="10432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7640" y="4838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812880" y="7027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3240" y="10566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78320" y="10566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45840" y="14378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3720" y="8308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4838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10800" y="599040"/>
              <a:ext cx="418680" cy="1198080"/>
              <a:chOff x="910800" y="599040"/>
              <a:chExt cx="418680" cy="1198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946440" y="870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58680" y="11584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92600" y="599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77840" y="8179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200" y="11718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043280" y="11718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910800" y="15530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58680" y="946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33200" y="5990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374840" y="9878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1200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4736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83080" y="1114920"/>
              <a:ext cx="13680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024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200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4736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8308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024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81600" y="500040"/>
              <a:ext cx="418680" cy="1197360"/>
              <a:chOff x="3981600" y="500040"/>
              <a:chExt cx="418680" cy="1197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017240" y="771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29480" y="105912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3400" y="500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148640" y="7185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9000" y="1072440"/>
                <a:ext cx="18252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114080" y="10724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981600" y="14533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9480" y="847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04000" y="500040"/>
                <a:ext cx="29628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247280" y="615240"/>
              <a:ext cx="416880" cy="1197360"/>
              <a:chOff x="4247280" y="615240"/>
              <a:chExt cx="416880" cy="11973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82560" y="886680"/>
                <a:ext cx="1890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94440" y="1174320"/>
                <a:ext cx="27360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8000" y="615240"/>
                <a:ext cx="16776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4413240" y="8337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13600" y="1187640"/>
                <a:ext cx="18180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378680" y="11876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4247280" y="1568520"/>
                <a:ext cx="13608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94440" y="962280"/>
                <a:ext cx="11880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8960" y="615240"/>
                <a:ext cx="29520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27400" y="10040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20240" y="526680"/>
              <a:ext cx="484920" cy="1198440"/>
              <a:chOff x="2820240" y="526680"/>
              <a:chExt cx="484920" cy="1198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856240" y="79884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8120" y="1086840"/>
                <a:ext cx="274680" cy="232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02040" y="527040"/>
                <a:ext cx="168120" cy="233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960" bIns="-1218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987280" y="74556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87640" y="1099440"/>
                <a:ext cx="18252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952720" y="109944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820240" y="1480680"/>
                <a:ext cx="13644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8120" y="87444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31480" y="552240"/>
                <a:ext cx="3092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057840" y="745560"/>
                <a:ext cx="247320" cy="6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19760" bIns="-1319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227760" y="526680"/>
                <a:ext cx="60480" cy="2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26440" bIns="-112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59600" y="329040"/>
              <a:ext cx="331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720" bIns="-82872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314680" y="591120"/>
              <a:ext cx="638640" cy="1198080"/>
              <a:chOff x="5314680" y="591120"/>
              <a:chExt cx="638640" cy="11980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5350320" y="862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62200" y="1150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96120" y="591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5481720" y="809640"/>
                <a:ext cx="70560" cy="38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0800" bIns="-100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1720" y="1163520"/>
                <a:ext cx="18288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46800" y="116352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14680" y="1545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62200" y="938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425920" y="615960"/>
                <a:ext cx="30888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52280" y="874080"/>
                <a:ext cx="40104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26240" bIns="-1326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954040" y="380520"/>
              <a:ext cx="2725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000" bIns="-82800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1440" y="849240"/>
              <a:ext cx="936720" cy="9007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46640" bIns="-74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88760" y="809640"/>
              <a:ext cx="993600" cy="97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690480" bIns="-690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00640" y="991440"/>
              <a:ext cx="383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768600" bIns="-76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en-US" sz="5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002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33720" y="1295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7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7400" y="1295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7560" y="1673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7920" y="2587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543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33720" y="3543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5240" y="3352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p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6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32655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2332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265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3265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8504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1905120"/>
            <a:ext cx="1295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905120"/>
            <a:ext cx="12956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817720"/>
            <a:ext cx="4494240" cy="30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09:30:19Z</dcterms:created>
  <dc:creator>d025762</dc:creator>
  <dc:description/>
  <dc:language>en-US</dc:language>
  <cp:lastModifiedBy>d025762</cp:lastModifiedBy>
  <dcterms:modified xsi:type="dcterms:W3CDTF">2004-09-13T09:07:00Z</dcterms:modified>
  <cp:revision>22</cp:revision>
  <dc:subject/>
  <dc:title>PowerPoint-Präsentation</dc:title>
</cp:coreProperties>
</file>