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588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935880"/>
            <a:ext cx="279684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93588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5880"/>
            <a:ext cx="8686800" cy="26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spcAft>
                <a:spcPts val="700"/>
              </a:spcAft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No iD for data obj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Times New Roman"/>
              </a:rPr>
              <a:t>All other object types have an iD for cross-reference purpos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Times New Roman"/>
              </a:rPr>
              <a:t>Solution: Add iD to CommonDataObjectAttributes  to bring them in line with the other CommonXXXObjectAttribut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afd00"/>
                </a:solidFill>
                <a:latin typeface="Times New Roman"/>
              </a:rPr>
              <a:t>No provision for internal obj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Typical implementation: User-visible PKCS #15 objects and non-visible token-specific inform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Problem: Soft-tokens don’t have a parallel universe in which to stash internal dat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All PKCS #15 objects which could be used for internal storage are also visible to the use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39499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afd00"/>
                </a:solidFill>
                <a:latin typeface="Times New Roman"/>
              </a:rPr>
              <a:t>No provision for internal objects (ctd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Solution: Add an ‘internal’ flag to CommonObjectFlag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Implementation Issu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Same namespace: User can determine existence of objects even if they can’t access the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Separate namespaces: Implementation is a bit more compl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9499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afd00"/>
                </a:solidFill>
                <a:latin typeface="Times New Roman"/>
              </a:rPr>
              <a:t>Secret key object storage is unnec.complex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Currently secret keys are stored a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RecipientInfo</a:t>
            </a:r>
            <a:r>
              <a:rPr b="0" lang="en-NZ" sz="2400" spc="-1" strike="noStrike" baseline="-25000">
                <a:solidFill>
                  <a:srgbClr val="fafd00"/>
                </a:solidFill>
                <a:latin typeface="Times New Roman"/>
              </a:rPr>
              <a:t>UserKey</a:t>
            </a: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( TempKey 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Encrypted</a:t>
            </a:r>
            <a:r>
              <a:rPr b="0" lang="en-NZ" sz="2400" spc="-1" strike="noStrike" baseline="-25000">
                <a:solidFill>
                  <a:srgbClr val="fafd00"/>
                </a:solidFill>
                <a:latin typeface="Times New Roman"/>
              </a:rPr>
              <a:t>Tempkey</a:t>
            </a: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( SecretKey 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Requires unnecessary process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Consumes unnecessary sto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Requires the ability to export plaintext keys to be envelop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The current storage method can’t actually be implemented in many cas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afd00"/>
                </a:solidFill>
                <a:latin typeface="Times New Roman"/>
              </a:rPr>
              <a:t>Secret key object storage is unnec.complex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Solution: Store the key directly in the RecipientInfo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RecipientInfo</a:t>
            </a:r>
            <a:r>
              <a:rPr b="0" lang="en-NZ" sz="2400" spc="-1" strike="noStrike" baseline="-25000">
                <a:solidFill>
                  <a:srgbClr val="fafd00"/>
                </a:solidFill>
                <a:latin typeface="Times New Roman"/>
              </a:rPr>
              <a:t>UserKey</a:t>
            </a: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( SecretKey 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Minimal amount of process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Minimal storage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Compatible with existing key wrap mechanisms/FIPS 140 require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Automatically works wi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PKCS #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CMS key wra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Fortezza key wra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PKCS #11 mechanisms (via C_WrapKey, C_UnwrapKe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3ec8"/>
            </a:gs>
            <a:gs pos="100000">
              <a:srgbClr val="114f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afd00"/>
                </a:solidFill>
                <a:latin typeface="Times New Roman"/>
              </a:rPr>
              <a:t>Secret key object storage is unnec.complex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afd00"/>
                </a:solidFill>
                <a:latin typeface="Times New Roman"/>
              </a:rPr>
              <a:t>Implementation Issue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Add another option to ObjectValue{}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Specify that for SecretKey objects, (in)direct-protected data has zero-length cont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afd00"/>
                </a:solidFill>
                <a:latin typeface="Times New Roman"/>
              </a:rPr>
              <a:t>Secret key is held in RecipientInf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4T02:13:34Z</dcterms:created>
  <dc:creator/>
  <dc:description/>
  <dc:language>en-US</dc:language>
  <cp:lastModifiedBy>Peter Gutmann</cp:lastModifiedBy>
  <cp:lastPrinted>2000-01-05T01:44:48Z</cp:lastPrinted>
  <dcterms:modified xsi:type="dcterms:W3CDTF">2001-04-03T15:20:24Z</dcterms:modified>
  <cp:revision>8</cp:revision>
  <dc:subject/>
  <dc:title>Network Security:A Feminist Perspective</dc:title>
</cp:coreProperties>
</file>